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89A-F895-4258-8969-5198896A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427-BB4B-4FF4-9F8F-6EEDBBE7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DB9-8574-4B11-AFF6-8BFFC08F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E00-F05F-49CA-86DA-64E3A9BA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A21-A141-40D2-9FF9-D1EE9646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B0A-DE36-48DE-899E-53DCBF26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546-29D7-43C8-878E-B9E07EF6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595-D257-44E3-BBFC-9413AFFB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1D1-E0A3-42A0-803C-8BA0A203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BC7-6708-4451-B508-6974EA51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652-E5C2-4FD5-8921-703BBE54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091-1ECE-4FAB-8558-D3F89D24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A67D-72EC-4A29-8C29-7F2AD2564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-152280"/>
            <a:ext cx="89154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Land –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Bundesland-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 Hauptstadt (die Hauptstädte) – major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 Landeshauptstadt -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 Sehenswürdigkeiten – places to see (p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 Tor –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 Schloss - ca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Restaurant - resta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Klima – climate (das Wetter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 Temperatur (Hoch und Ti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chschnitt von (+ dat.)- averag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chschnittlich – average (ad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n …. bis (from &amp; to…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 Fluss (Flüsse) -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 Berg (-e) – mou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 Hügel – hill, die Hügel 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der See (-n) – lak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die See - se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029200" y="1905120"/>
            <a:ext cx="4343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e Hauptgerichte -  main di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e Hauptindustrien – main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le  - a lot of or 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e Marsch – mar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 Wald - 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ch – f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uchtbar – fer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e Grenze – the 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renzt von…  border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1T15:06:46Z</dcterms:created>
  <dc:creator>temp</dc:creator>
  <dc:description/>
  <dc:language>en-US</dc:language>
  <cp:lastModifiedBy>temp</cp:lastModifiedBy>
  <dcterms:modified xsi:type="dcterms:W3CDTF">2013-05-02T15:33:41Z</dcterms:modified>
  <cp:revision>17</cp:revision>
  <dc:subject/>
  <dc:title>Slide 1</dc:title>
</cp:coreProperties>
</file>